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1436-63B3-44A9-ACCB-1D2965AEF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9757-6C27-400F-9A7B-D6D350B9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B368-BDCE-4BB5-A3E6-413148142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856C-9555-4CB2-BFD2-D36D399B9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955A-F8C0-4C4D-B5CB-F5FE02F6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62D2-B786-45AB-95B2-F0AA007E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1A45-C7D2-4657-BA05-22A01E20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F24D-6CBB-4499-9EA0-F6C0708A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0814-AF8A-4900-9645-957B4069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F3D7-2077-4299-B3FC-C195C2D2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450F-C0D8-4830-92F1-E735B1C6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8A02-53F8-4A0D-9B79-5579CDFB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D05832-04CB-4002-8F89-3CFA2FF1B067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winter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noise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headaches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sleep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bed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water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see%20night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dark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lots%20love.mp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dear%20john.mp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dry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fleas%20lice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fight%20brave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rats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un%20happy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pain%20here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how%20many%20room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too%20many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clean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cold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afraid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scared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scratch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stupid%20battles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ist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lick on the pictures from left to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ick if there is a m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ross if there is no m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08160" y="1768320"/>
            <a:ext cx="766296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08160" y="1768320"/>
            <a:ext cx="7662960" cy="4989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5T08:30:25Z</dcterms:created>
  <dc:creator>dominique  camier</dc:creator>
  <dc:description/>
  <dc:language>en-US</dc:language>
  <cp:lastModifiedBy>dominique  camier</cp:lastModifiedBy>
  <dcterms:modified xsi:type="dcterms:W3CDTF">2014-03-05T09:39:51Z</dcterms:modified>
  <cp:revision>27</cp:revision>
  <dc:subject/>
  <dc:title/>
</cp:coreProperties>
</file>